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f"/>
            </a:gs>
            <a:gs pos="100000">
              <a:srgbClr val="1313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11"/>
          <p:cNvSpPr/>
          <p:nvPr/>
        </p:nvSpPr>
        <p:spPr>
          <a:xfrm>
            <a:off x="974880" y="417600"/>
            <a:ext cx="771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16d9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Line 22"/>
          <p:cNvSpPr/>
          <p:nvPr/>
        </p:nvSpPr>
        <p:spPr>
          <a:xfrm>
            <a:off x="3733920" y="6400800"/>
            <a:ext cx="4952880" cy="0"/>
          </a:xfrm>
          <a:prstGeom prst="line">
            <a:avLst/>
          </a:prstGeom>
          <a:ln w="9360">
            <a:solidFill>
              <a:srgbClr val="f0a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4" descr="FINAL LOGO2_blu_notag"/>
          <p:cNvPicPr/>
          <p:nvPr/>
        </p:nvPicPr>
        <p:blipFill>
          <a:blip r:embed="rId2"/>
          <a:stretch/>
        </p:blipFill>
        <p:spPr>
          <a:xfrm>
            <a:off x="380880" y="5896080"/>
            <a:ext cx="3276720" cy="88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f"/>
            </a:gs>
            <a:gs pos="100000">
              <a:srgbClr val="1313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rcRect l="102" t="0" r="-98" b="0"/>
          <a:stretch/>
        </p:blipFill>
        <p:spPr>
          <a:xfrm>
            <a:off x="9360" y="274176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1390680"/>
            <a:ext cx="9144000" cy="1962000"/>
          </a:xfrm>
          <a:prstGeom prst="rect">
            <a:avLst/>
          </a:prstGeom>
          <a:solidFill>
            <a:srgbClr val="016d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0" descr=""/>
          <p:cNvPicPr/>
          <p:nvPr/>
        </p:nvPicPr>
        <p:blipFill>
          <a:blip r:embed="rId3"/>
          <a:stretch/>
        </p:blipFill>
        <p:spPr>
          <a:xfrm>
            <a:off x="6770520" y="6458040"/>
            <a:ext cx="1992600" cy="247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1" descr="FINAL LOGO2_blu"/>
          <p:cNvPicPr/>
          <p:nvPr/>
        </p:nvPicPr>
        <p:blipFill>
          <a:blip r:embed="rId4"/>
          <a:stretch/>
        </p:blipFill>
        <p:spPr>
          <a:xfrm>
            <a:off x="228600" y="76320"/>
            <a:ext cx="3292560" cy="838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16d9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629040" y="68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EC6E-721C-4304-B4E8-BA6F35250F1D}" type="datetime3">
              <a:rPr b="1" lang="en-US" sz="1400" spc="-1" strike="noStrike">
                <a:solidFill>
                  <a:srgbClr val="003366"/>
                </a:solidFill>
                <a:latin typeface="Verdana"/>
              </a:rPr>
              <a:t>July 31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68560"/>
            <a:ext cx="822960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se of SAS-Based Natural Language Processing to Identify Incident and Recurrent Malignanci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495360" y="232416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ustin A. Strauss,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Associate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aiser Permanente Southern Califor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1627200" y="1066680"/>
            <a:ext cx="5889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y 1, 2012 </a:t>
            </a:r>
            <a:r>
              <a:rPr b="0" lang="en-US" sz="1600" spc="-1" strike="noStrike">
                <a:solidFill>
                  <a:srgbClr val="7f7f7f"/>
                </a:solidFill>
                <a:latin typeface="Verdana"/>
              </a:rPr>
              <a:t> •</a:t>
            </a: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7f7f7f"/>
                </a:solidFill>
                <a:latin typeface="Verdana"/>
              </a:rPr>
              <a:t>2012 HMORN Conference • Seattle, Washing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16d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alidation Stud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2392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a2a4f"/>
                </a:solidFill>
                <a:latin typeface="Verdana"/>
              </a:rPr>
              <a:t>To validate SCENT, trained chart abstractors reviewed electronic pathology reports.</a:t>
            </a:r>
            <a:endParaRPr b="0" lang="en-US" sz="2200" spc="-1" strike="noStrike">
              <a:solidFill>
                <a:srgbClr val="2a2a4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a2a4f"/>
                </a:solidFill>
                <a:latin typeface="Verdana"/>
              </a:rPr>
              <a:t>Random samples of breast (n=400) and prostate (n=400) cancer patients.</a:t>
            </a:r>
            <a:endParaRPr b="0" lang="en-US" sz="2200" spc="-1" strike="noStrike">
              <a:solidFill>
                <a:srgbClr val="2a2a4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Patients diagnosed at KPSC between 2000-2007. 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Reports included from six months post-diagnosis through end of 2008.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a2a4f"/>
                </a:solidFill>
                <a:latin typeface="Verdana"/>
              </a:rPr>
              <a:t>In total, 206 breast and 186 prostate cancer patients contributed 490 and 425 eligible reports, respectively.</a:t>
            </a:r>
            <a:endParaRPr b="0" lang="en-US" sz="2200" spc="-1" strike="noStrike">
              <a:solidFill>
                <a:srgbClr val="2a2a4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a2a4f"/>
                </a:solidFill>
                <a:latin typeface="Verdana"/>
              </a:rPr>
              <a:t>SCENT classifications were compared with those of abstractors.</a:t>
            </a:r>
            <a:endParaRPr b="0" lang="en-US" sz="2200" spc="-1" strike="noStrike">
              <a:solidFill>
                <a:srgbClr val="2a2a4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16d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ssification Concord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293840"/>
          <a:ext cx="8229600" cy="4024440"/>
        </p:xfrm>
        <a:graphic>
          <a:graphicData uri="http://schemas.openxmlformats.org/drawingml/2006/table">
            <a:tbl>
              <a:tblPr/>
              <a:tblGrid>
                <a:gridCol w="1905120"/>
                <a:gridCol w="703080"/>
                <a:gridCol w="701640"/>
                <a:gridCol w="703440"/>
                <a:gridCol w="703080"/>
                <a:gridCol w="701640"/>
                <a:gridCol w="703440"/>
                <a:gridCol w="703080"/>
                <a:gridCol w="701640"/>
                <a:gridCol w="703440"/>
              </a:tblGrid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8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stractor Class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ary C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spicio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91440" bIns="91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ENT Class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91440" bIns="91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91440" bIns="91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91440" bIns="91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91440" bIns="91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91440" bIns="91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91440" bIns="91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91440" bIns="91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91440" bIns="91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91440" bIns="91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p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93760">
                <a:tc>
                  <a:txBody>
                    <a:bodyPr lIns="90000" rIns="90000" tIns="54720" bIns="54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east Cancer (Tot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43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1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2320">
                <a:tc>
                  <a:txBody>
                    <a:bodyPr lIns="90000" rIns="90000" tIns="54720" bIns="54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n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2320">
                <a:tc>
                  <a:txBody>
                    <a:bodyPr lIns="90000" rIns="90000" tIns="54720" bIns="54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ncer Recur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3400">
                <a:tc>
                  <a:txBody>
                    <a:bodyPr lIns="90000" rIns="90000" tIns="54720" bIns="54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ther Primary C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2320">
                <a:tc>
                  <a:txBody>
                    <a:bodyPr lIns="90000" rIns="90000" tIns="54720" bIns="54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spicio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3760">
                <a:tc>
                  <a:txBody>
                    <a:bodyPr lIns="90000" rIns="90000" tIns="54720" bIns="54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state Cancer (Tot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5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2320">
                <a:tc>
                  <a:txBody>
                    <a:bodyPr lIns="90000" rIns="90000" tIns="54720" bIns="54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n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2320">
                <a:tc>
                  <a:txBody>
                    <a:bodyPr lIns="90000" rIns="90000" tIns="54720" bIns="54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ncer Recur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3760">
                <a:tc>
                  <a:txBody>
                    <a:bodyPr lIns="90000" rIns="90000" tIns="54720" bIns="54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ther Primary C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2320">
                <a:tc>
                  <a:txBody>
                    <a:bodyPr lIns="90000" rIns="90000" tIns="54720" bIns="54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spicio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11" name="TextBox 3"/>
          <p:cNvSpPr/>
          <p:nvPr/>
        </p:nvSpPr>
        <p:spPr>
          <a:xfrm>
            <a:off x="467280" y="5486400"/>
            <a:ext cx="497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Note: incident contralateral breast malignancies were considered to be recurrenc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16d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CENT Performance Metr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295280"/>
          <a:ext cx="8229600" cy="20718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5720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itivity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ity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V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V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08200">
                <a:tc>
                  <a:txBody>
                    <a:bodyPr lIns="90000" rIns="90000" tIns="64080" bIns="64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east C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00 (0.93-1.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99 (0.98-1.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94 (0.85-0.9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00 (0.99-1.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06400">
                <a:tc>
                  <a:txBody>
                    <a:bodyPr lIns="90000" rIns="90000" tIns="64080" bIns="64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state C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97 (0.89-0.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99 (0.98-1.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97 (0.89-0.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99 (0.98-1.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14" name="TextBox 9"/>
          <p:cNvSpPr/>
          <p:nvPr/>
        </p:nvSpPr>
        <p:spPr>
          <a:xfrm>
            <a:off x="462240" y="3505320"/>
            <a:ext cx="289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* Shown with Wilson's 95% confidence interva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16d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12392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Favorable results suggest SCENT can identify and extract information about primary and recurrent malignancies from pathology reports.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2a4f"/>
                </a:solidFill>
                <a:latin typeface="Verdana"/>
              </a:rPr>
              <a:t>Rapid cancer case identification.</a:t>
            </a:r>
            <a:endParaRPr b="0" lang="en-US" sz="1600" spc="-1" strike="noStrike">
              <a:solidFill>
                <a:srgbClr val="2a2a4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2a4f"/>
                </a:solidFill>
                <a:latin typeface="Verdana"/>
              </a:rPr>
              <a:t>Improved measurement accuracy of common study endpoint.</a:t>
            </a:r>
            <a:endParaRPr b="0" lang="en-US" sz="1600" spc="-1" strike="noStrike">
              <a:solidFill>
                <a:srgbClr val="2a2a4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SCENT has the potential to expedite chart reviews by narrowing the search and highlighting relevant concepts.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Generalized utility for extracting standardized disease scores and other clinical information.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SCENT is proof of concept for SAS-based NLP that can be easily shared between institutions to support research.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16d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mitations &amp; Next Ste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12392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SCENT has a number of limitations, including: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2a4f"/>
                </a:solidFill>
                <a:latin typeface="Verdana"/>
              </a:rPr>
              <a:t>Unable to disambiguate and contextualize identified clinical concepts without part-of-speech (POS) tagging.</a:t>
            </a:r>
            <a:endParaRPr b="0" lang="en-US" sz="1600" spc="-1" strike="noStrike">
              <a:solidFill>
                <a:srgbClr val="2a2a4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2a4f"/>
                </a:solidFill>
                <a:latin typeface="Verdana"/>
              </a:rPr>
              <a:t>More susceptible to changes in text structure and increased linguistic variability than statistical NLP approaches.</a:t>
            </a:r>
            <a:endParaRPr b="0" lang="en-US" sz="1600" spc="-1" strike="noStrike">
              <a:solidFill>
                <a:srgbClr val="2a2a4f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2a4f"/>
                </a:solidFill>
                <a:latin typeface="Verdana"/>
              </a:rPr>
              <a:t>General purpose NLP (e.g., cTAKES) likely to perform better outside of pathology</a:t>
            </a:r>
            <a:r>
              <a:rPr b="0" lang="en-US" sz="1600" spc="-1" strike="noStrike">
                <a:solidFill>
                  <a:srgbClr val="2a2a4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a2a4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Next steps include: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2a4f"/>
                </a:solidFill>
                <a:latin typeface="Verdana"/>
              </a:rPr>
              <a:t>Release SCENT source code and requisite support files.</a:t>
            </a:r>
            <a:endParaRPr b="0" lang="en-US" sz="1600" spc="-1" strike="noStrike">
              <a:solidFill>
                <a:srgbClr val="2a2a4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2a4f"/>
                </a:solidFill>
                <a:latin typeface="Verdana"/>
              </a:rPr>
              <a:t>Optimize current functionality and assess feasibility of adding methods (e.g., POS tagging, n-grams, statistical classifiers).</a:t>
            </a:r>
            <a:endParaRPr b="0" lang="en-US" sz="1600" spc="-1" strike="noStrike">
              <a:solidFill>
                <a:srgbClr val="2a2a4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2a4f"/>
                </a:solidFill>
                <a:latin typeface="Verdana"/>
              </a:rPr>
              <a:t>Attempt to identify non-pathologically diagnosed malignancies using radiology reports and clinical progress notes.</a:t>
            </a:r>
            <a:endParaRPr b="0" lang="en-US" sz="1600" spc="-1" strike="noStrike">
              <a:solidFill>
                <a:srgbClr val="2a2a4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2a4f"/>
                </a:solidFill>
                <a:latin typeface="Verdana"/>
              </a:rPr>
              <a:t>Quantify cost savings associated with SCENT-assisted chart reviews.</a:t>
            </a:r>
            <a:endParaRPr b="0" lang="en-US" sz="1600" spc="-1" strike="noStrike">
              <a:solidFill>
                <a:srgbClr val="2a2a4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16d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16d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-Auth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2392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2a4f"/>
                </a:solidFill>
                <a:latin typeface="Verdana"/>
              </a:rPr>
              <a:t>Chun R. Chao, PhD</a:t>
            </a: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2a4f"/>
                </a:solidFill>
                <a:latin typeface="Verdana"/>
              </a:rPr>
              <a:t>Marilyn L. Kwan, PhD</a:t>
            </a: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2a4f"/>
                </a:solidFill>
                <a:latin typeface="Verdana"/>
              </a:rPr>
              <a:t>Syed A. Ahmed, MD</a:t>
            </a: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2a4f"/>
                </a:solidFill>
                <a:latin typeface="Verdana"/>
              </a:rPr>
              <a:t>Joanne E. Schottinger, MD</a:t>
            </a: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2a4f"/>
                </a:solidFill>
                <a:latin typeface="Verdana"/>
              </a:rPr>
              <a:t>Virginia P. Quinn, PhD</a:t>
            </a:r>
            <a:endParaRPr b="0" lang="en-US" sz="3200" spc="-1" strike="noStrike">
              <a:solidFill>
                <a:srgbClr val="2a2a4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16d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knowledgements &amp; Fun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12392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2a4f"/>
                </a:solidFill>
                <a:latin typeface="Verdana"/>
              </a:rPr>
              <a:t>Mayra Martinez, Michelle McGuire, Melissa Preciado, Nirupa Ghai, and Jeff Slezak (KPSC); Lawrence Kushi (KPNC); Debra Ritzwoller (KPCO); Joan Warren (NCI); Jianyu Rao and Jiaoti Huang (UCLA)</a:t>
            </a:r>
            <a:endParaRPr b="0" lang="en-US" sz="2800" spc="-1" strike="noStrike">
              <a:solidFill>
                <a:srgbClr val="2a2a4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2a4f"/>
                </a:solidFill>
                <a:latin typeface="Verdana"/>
              </a:rPr>
              <a:t>Funding was provided by KPSC Community Benefit and the Cancer Research Network</a:t>
            </a:r>
            <a:endParaRPr b="0" lang="en-US" sz="2800" spc="-1" strike="noStrike">
              <a:solidFill>
                <a:srgbClr val="2a2a4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16d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lignancy Ident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2392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2a4f"/>
                </a:solidFill>
                <a:latin typeface="Verdana"/>
              </a:rPr>
              <a:t>Malignancy identification is important for clinical and epidemiologic cancer research.</a:t>
            </a:r>
            <a:endParaRPr b="0" lang="en-US" sz="2400" spc="-1" strike="noStrike">
              <a:solidFill>
                <a:srgbClr val="2a2a4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2a4f"/>
                </a:solidFill>
                <a:latin typeface="Verdana"/>
              </a:rPr>
              <a:t>Limited quality and availability of incident and recurrent malignancy data within health plans.</a:t>
            </a:r>
            <a:endParaRPr b="0" lang="en-US" sz="2400" spc="-1" strike="noStrike">
              <a:solidFill>
                <a:srgbClr val="2a2a4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Delayed availability of incident malignancy data from cancer registries.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Few registries track cancer recurrences.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Manual chart abstraction slow and expensive.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Previous research has shown electronic diagnosis codes (e.g., ICD-9) to be unreliable.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16d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atural Language Proces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2392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Natural language processing (NLP) can be used to identify and extract information from electronic clinical text, including incident and recurrent malignancy data.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Increasing opportunity for NLP with adoption of electronic clinical systems in patient care delivery.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Despite its potential value in clinical and research settings, NLP usage has been relatively sparse.  Contributing factors may include: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2a4f"/>
                </a:solidFill>
                <a:latin typeface="Verdana"/>
              </a:rPr>
              <a:t>Technical complexity</a:t>
            </a:r>
            <a:endParaRPr b="0" lang="en-US" sz="1800" spc="-1" strike="noStrike">
              <a:solidFill>
                <a:srgbClr val="2a2a4f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2a4f"/>
                </a:solidFill>
                <a:latin typeface="Verdana"/>
              </a:rPr>
              <a:t>Systems integration requirements</a:t>
            </a:r>
            <a:endParaRPr b="0" lang="en-US" sz="1800" spc="-1" strike="noStrike">
              <a:solidFill>
                <a:srgbClr val="2a2a4f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2a4f"/>
                </a:solidFill>
                <a:latin typeface="Verdana"/>
              </a:rPr>
              <a:t>Habitual use of existing methods</a:t>
            </a:r>
            <a:endParaRPr b="0" lang="en-US" sz="1800" spc="-1" strike="noStrike">
              <a:solidFill>
                <a:srgbClr val="2a2a4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16d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CENT Overvie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2392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A SAS-based coding, extraction, and nomenclature tool (SCENT) was developed to identify incident and recurrent malignancies using text from pathology reports.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SCENT is currently being implemented in two research studies at Kaiser Permanente Southern California (KPSC):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2a4f"/>
                </a:solidFill>
                <a:latin typeface="Verdana"/>
              </a:rPr>
              <a:t>Intervention to improve medication adherence among breast cancer patients.</a:t>
            </a:r>
            <a:endParaRPr b="0" lang="en-US" sz="1800" spc="-1" strike="noStrike">
              <a:solidFill>
                <a:srgbClr val="2a2a4f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2a4f"/>
                </a:solidFill>
                <a:latin typeface="Verdana"/>
              </a:rPr>
              <a:t>Differences in the prognosis of prostate cancer patients according to their genetic factors</a:t>
            </a:r>
            <a:endParaRPr b="0" lang="en-US" sz="1800" spc="-1" strike="noStrike">
              <a:solidFill>
                <a:srgbClr val="2a2a4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Use of SAS programming minimizes implementation barriers and increases availability for multisite research.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16d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ption of Method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2392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SCENT identifies non-negated clinical concepts within pathology report text.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Built using SAS Base (does not require Text Miner add-on).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2a4f"/>
                </a:solidFill>
                <a:latin typeface="Verdana"/>
              </a:rPr>
              <a:t>Makes extensive use of SAS hash objects and regular expressions.</a:t>
            </a:r>
            <a:endParaRPr b="0" lang="en-US" sz="1600" spc="-1" strike="noStrike">
              <a:solidFill>
                <a:srgbClr val="2a2a4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Includes components for preprocessing, matching, negation and uncertainty detection, extracting diagnostic information (e.g., staging and Gleason score), and classifying report malignancy status.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2a4f"/>
                </a:solidFill>
                <a:latin typeface="Verdana"/>
              </a:rPr>
              <a:t>Flexibility to assign codes using variety of coding systems.</a:t>
            </a:r>
            <a:endParaRPr b="0" lang="en-US" sz="2000" spc="-1" strike="noStrike">
              <a:solidFill>
                <a:srgbClr val="2a2a4f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16d9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2a4f"/>
                </a:solidFill>
                <a:latin typeface="Verdana"/>
              </a:rPr>
              <a:t>Validation used subset of SNOMED 3.x (~1000 concepts).</a:t>
            </a:r>
            <a:endParaRPr b="0" lang="en-US" sz="1800" spc="-1" strike="noStrike">
              <a:solidFill>
                <a:srgbClr val="2a2a4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16d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CENT Process Dia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7080" y="1168560"/>
            <a:ext cx="88898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16d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Report Co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71520" y="1371600"/>
          <a:ext cx="8410680" cy="1706400"/>
        </p:xfrm>
        <a:graphic>
          <a:graphicData uri="http://schemas.openxmlformats.org/drawingml/2006/table">
            <a:tbl>
              <a:tblPr/>
              <a:tblGrid>
                <a:gridCol w="8410680"/>
              </a:tblGrid>
              <a:tr h="1706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 BREAST CORE BIOPSY TWO O CLOCK.</a:t>
                      </a:r>
                      <a:br>
                        <a:rPr sz="600"/>
                      </a:b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Calibri"/>
                        </a:rPr>
                        <a:t>&lt;BR&gt;</a:t>
                      </a:r>
                      <a:br>
                        <a:rPr sz="6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ASIVE DUCTAL CARCINOMA NOTTINGHAM GRADE 2.</a:t>
                      </a:r>
                      <a:br>
                        <a:rPr sz="600"/>
                      </a:b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Calibri"/>
                        </a:rPr>
                        <a:t>&lt;BR&gt;</a:t>
                      </a:r>
                      <a:br>
                        <a:rPr sz="6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ALCIFICATION IS IDENTIFIED.</a:t>
                      </a:r>
                      <a:br>
                        <a:rPr sz="600"/>
                      </a:b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Calibri"/>
                        </a:rPr>
                        <a:t>&lt;BR&gt;</a:t>
                      </a:r>
                      <a:br>
                        <a:rPr sz="6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VASCULAR INVASION IS IDENTIFIED.</a:t>
                      </a:r>
                      <a:br>
                        <a:rPr sz="600"/>
                      </a:b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Calibri"/>
                        </a:rPr>
                        <a:t>&lt;BR&gt;</a:t>
                      </a:r>
                      <a:br>
                        <a:rPr sz="6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MONE RECEPTOR AND HER 2 NEU STATUS PENDING AN ADDENDUM WILL FOLLOW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71520" y="3576600"/>
          <a:ext cx="8410680" cy="2133720"/>
        </p:xfrm>
        <a:graphic>
          <a:graphicData uri="http://schemas.openxmlformats.org/drawingml/2006/table">
            <a:tbl>
              <a:tblPr/>
              <a:tblGrid>
                <a:gridCol w="8410680"/>
              </a:tblGrid>
              <a:tr h="2133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&lt;NLP SNM=T04030 TYPE=T&gt;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LEFT BREAST</a:t>
                      </a: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&lt;/NLP SNM=T04030&g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ORE </a:t>
                      </a: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&lt;NLP SNM=P1140 TYPE=P&gt;</a:t>
                      </a: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BIOPSY</a:t>
                      </a: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&lt;/NLP SNM=P1140&gt;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 O CLOCK.</a:t>
                      </a:r>
                      <a:br>
                        <a:rPr sz="600"/>
                      </a:b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Calibri"/>
                        </a:rPr>
                        <a:t>&lt;BR&gt;</a:t>
                      </a:r>
                      <a:br>
                        <a:rPr sz="6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ASIVE </a:t>
                      </a:r>
                      <a:r>
                        <a:rPr b="0" lang="en-US" sz="1400" spc="-1" strike="noStrike">
                          <a:solidFill>
                            <a:srgbClr val="0066cc"/>
                          </a:solidFill>
                          <a:latin typeface="Calibri"/>
                        </a:rPr>
                        <a:t>&lt;NLP SNM=M85003 TYPE=M CLASS=3&gt;</a:t>
                      </a:r>
                      <a:r>
                        <a:rPr b="1" lang="en-US" sz="1400" spc="-1" strike="noStrike">
                          <a:solidFill>
                            <a:srgbClr val="0066cc"/>
                          </a:solidFill>
                          <a:latin typeface="Calibri"/>
                        </a:rPr>
                        <a:t>DUCTAL CARCINOMA</a:t>
                      </a:r>
                      <a:r>
                        <a:rPr b="0" lang="en-US" sz="1400" spc="-1" strike="noStrike">
                          <a:solidFill>
                            <a:srgbClr val="0066cc"/>
                          </a:solidFill>
                          <a:latin typeface="Calibri"/>
                        </a:rPr>
                        <a:t>&lt;/NLP SNM=M85003&g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TTINGHAM GRADE 2.</a:t>
                      </a:r>
                      <a:br>
                        <a:rPr sz="600"/>
                      </a:b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Calibri"/>
                        </a:rPr>
                        <a:t>&lt;BR&gt;</a:t>
                      </a:r>
                      <a:br>
                        <a:rPr sz="6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ALCIFICATION IS IDENTIFIED.</a:t>
                      </a:r>
                      <a:br>
                        <a:rPr sz="600"/>
                      </a:b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Calibri"/>
                        </a:rPr>
                        <a:t>&lt;BR&gt;</a:t>
                      </a:r>
                      <a:br>
                        <a:rPr sz="6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VASCULAR INVASION IS IDENTIFIED.</a:t>
                      </a:r>
                      <a:br>
                        <a:rPr sz="600"/>
                      </a:b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Calibri"/>
                        </a:rPr>
                        <a:t>&lt;BR&gt;</a:t>
                      </a:r>
                      <a:br>
                        <a:rPr sz="6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MONE RECEPTOR AND HER 2 NEU STATUS PENDING AN ADDENDUM WILL FOLLOW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Box 1"/>
          <p:cNvSpPr/>
          <p:nvPr/>
        </p:nvSpPr>
        <p:spPr>
          <a:xfrm>
            <a:off x="343080" y="1019160"/>
            <a:ext cx="191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rocesse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344880" y="323856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21:43:53Z</dcterms:created>
  <dc:creator>pamiller</dc:creator>
  <dc:description/>
  <dc:language>en-US</dc:language>
  <cp:lastModifiedBy>Justin Strauss</cp:lastModifiedBy>
  <cp:lastPrinted>2012-03-22T23:00:25Z</cp:lastPrinted>
  <dcterms:modified xsi:type="dcterms:W3CDTF">2012-05-03T17:43:08Z</dcterms:modified>
  <cp:revision>1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RoutingRuleDescription">
    <vt:lpwstr>Dark and Light Blue Slide Show</vt:lpwstr>
  </property>
  <property fmtid="{D5CDD505-2E9C-101B-9397-08002B2CF9AE}" pid="3" name="_dlc_DocId">
    <vt:lpwstr>M22JD2QKN7W4-69-2</vt:lpwstr>
  </property>
  <property fmtid="{D5CDD505-2E9C-101B-9397-08002B2CF9AE}" pid="4" name="_dlc_DocIdItemGuid">
    <vt:lpwstr>00717fd3-b48b-44d8-a21a-7bfc512c7069</vt:lpwstr>
  </property>
  <property fmtid="{D5CDD505-2E9C-101B-9397-08002B2CF9AE}" pid="5" name="_dlc_DocIdUrl">
    <vt:lpwstr>http://myre.kp-scalresearch.org/InfoCenter/graphictools/_layouts/DocIdRedir.aspx?ID=M22JD2QKN7W4-69-2, M22JD2QKN7W4-69-2</vt:lpwstr>
  </property>
</Properties>
</file>